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49850"/>
        <c:axId val="98566340"/>
      </c:barChart>
      <c:catAx>
        <c:axId val="76849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6340"/>
        <c:crosses val="autoZero"/>
        <c:auto val="1"/>
        <c:lblAlgn val="ctr"/>
        <c:lblOffset val="100"/>
        <c:noMultiLvlLbl val="0"/>
      </c:catAx>
      <c:valAx>
        <c:axId val="98566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9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DFC-1325-43AE-B353-EE6A9D47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9DF-B059-47C1-B27B-9ABF6060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2D9-089D-4305-9C86-82607095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4F3-B390-4D07-B7C2-5C771FB9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5D1-EB59-4160-9EC2-1DF3DA0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448-521A-4D42-A4D8-C15BF643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4F8-D267-4E2F-AAB9-BDD61E3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136-2D72-4361-92A7-2155196F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BFB-564B-4258-8D53-3B174A7E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38F-5EB2-4CE5-89A7-32772579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EC9-3B4E-4512-9992-CB64A17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B3E-D264-417B-9A81-4FF3265D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5BCF9-EA73-4E37-BB0E-2023A21291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