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89249"/>
        <c:axId val="49829789"/>
      </c:barChart>
      <c:catAx>
        <c:axId val="647892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29789"/>
        <c:crosses val="autoZero"/>
        <c:auto val="1"/>
        <c:lblAlgn val="ctr"/>
        <c:lblOffset val="100"/>
        <c:noMultiLvlLbl val="0"/>
      </c:catAx>
      <c:valAx>
        <c:axId val="49829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892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289-61D6-4CAE-80E7-33564722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D9DF-BE2B-4195-B2ED-AA991308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1EDE-64CE-42B7-90BC-204354A55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42CE-026D-4B2C-821D-18F565860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B47C-E8C9-4557-A5A6-F750C129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7A23-D0CF-4727-AA20-F5A82EB5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7652-C56E-4EAF-A545-B09E1E20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61C-52EB-4FA5-A7C2-D28288D7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4853-09DD-45DA-A900-61DB3F9A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668-3E54-4DAF-A858-0E1D1E9C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D07-8067-4663-AC4A-AA3FAB68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DDD-791D-441A-8049-4E8331A7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D3D35-F339-4CB4-AAC6-7E2F7A8184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