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64225"/>
        <c:axId val="82493643"/>
      </c:barChart>
      <c:catAx>
        <c:axId val="898642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93643"/>
        <c:crosses val="autoZero"/>
        <c:auto val="1"/>
        <c:lblAlgn val="ctr"/>
        <c:lblOffset val="100"/>
        <c:noMultiLvlLbl val="0"/>
      </c:catAx>
      <c:valAx>
        <c:axId val="82493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642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311F-7C1C-4EF8-B15F-F112B35D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052-A661-4FEC-B671-A015AAC3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A14-A6F7-494B-8629-924EA509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AACD-6944-4FCA-9D08-A10BE830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146-54B0-4065-BE79-837F8710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F47-C001-4832-A7E8-F75CD8DD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D20-F6C7-4221-8412-82B2AF3E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834-51F7-4FBE-83D3-ABE1962A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E073-BB8E-45AE-9DC1-FBE6819F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A7D-A8C0-4392-87E8-71F19A2E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F48-8D16-47EC-BE6C-44A9C2BD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F449-DF25-4383-8046-C8ED22E7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E1144-B30D-4ABD-9F64-F2C50F1FD2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