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64213"/>
        <c:axId val="26662567"/>
      </c:barChart>
      <c:catAx>
        <c:axId val="15564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2567"/>
        <c:crosses val="autoZero"/>
        <c:auto val="1"/>
        <c:lblAlgn val="ctr"/>
        <c:lblOffset val="100"/>
        <c:noMultiLvlLbl val="0"/>
      </c:catAx>
      <c:valAx>
        <c:axId val="26662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4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13F-022F-482C-9335-E05BECB8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5D5-DE5A-4FF3-8D94-B6731A2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AD0-15A0-409A-A46E-D14CA0D0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ACB-56A2-4337-B479-67EE374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E04-ACC6-4F02-9EC1-264EB137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92D-68E2-44A4-8963-A92507B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440-DE4D-4007-82B3-CCA81E8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E01-82E0-43C1-A295-C11BF6A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807-4359-4FBD-83B3-666BFA18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2D7-D04E-4D8E-B0F9-E8DA34E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B78-624F-4D3A-901B-84059DE1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81C-981A-4EBF-B862-B5D0317C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A6960-9930-4F6D-A8C5-EC9C1F5AF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