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886821"/>
        <c:axId val="80012604"/>
      </c:barChart>
      <c:catAx>
        <c:axId val="828868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12604"/>
        <c:crosses val="autoZero"/>
        <c:auto val="1"/>
        <c:lblAlgn val="ctr"/>
        <c:lblOffset val="100"/>
        <c:noMultiLvlLbl val="0"/>
      </c:catAx>
      <c:valAx>
        <c:axId val="800126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868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7BBD-FCDA-442F-8A77-61F9447B8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58B4-20DE-46E9-9399-B9AD155F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D5E3-D46F-4671-B8DE-93E46A69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4FD2-4EAF-4E00-9883-0C33BAB7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32B1-E310-40CB-AE73-145EEEE6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10CA-6DD8-4E3E-AE65-491178E9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C778-3E59-4302-BDF3-78A36933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6D5F-A5CB-4A7D-BC46-AD9A3037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D0CD-D218-4201-A45A-9B004943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C563-9477-486D-9A15-52C569B5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2388-B897-451C-BAAD-4956D25D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D09A-A215-420B-BA2C-0FA22895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B9FDB-23CC-4226-BC99-9169824E18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