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40049"/>
        <c:axId val="11516189"/>
      </c:barChart>
      <c:catAx>
        <c:axId val="90240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16189"/>
        <c:crosses val="autoZero"/>
        <c:auto val="1"/>
        <c:lblAlgn val="ctr"/>
        <c:lblOffset val="100"/>
        <c:noMultiLvlLbl val="0"/>
      </c:catAx>
      <c:valAx>
        <c:axId val="11516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0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8C4-507A-4520-9C5E-F4D0DFF3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292-BA3D-4088-9B38-9E54A96C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0EF-6466-4DBE-8E50-95484733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D2D-9317-4D15-9B5A-E908E236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F1C-AFB1-4256-A79D-BA7EE863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F95-1CFD-4184-A4EF-864869C1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849-5C1D-4884-84F9-F4AD4251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AB3-362F-49E5-95E3-3BE64A78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88C-89C4-47CB-BB7A-015CAA0C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2D2-9B97-446F-821A-A2DED7BF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AD7-DBB3-480E-A5CB-ECD1F8F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442-00AC-4C5A-9077-9BF2CEA2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3F59B-A49E-406F-B803-CB08CBD601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