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6297"/>
        <c:axId val="34053065"/>
      </c:barChart>
      <c:catAx>
        <c:axId val="59806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53065"/>
        <c:crosses val="autoZero"/>
        <c:auto val="1"/>
        <c:lblAlgn val="ctr"/>
        <c:lblOffset val="100"/>
        <c:noMultiLvlLbl val="0"/>
      </c:catAx>
      <c:valAx>
        <c:axId val="34053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6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C81-C7D5-482B-B804-B0675C8C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CD6-9740-49D4-A75A-558C80FF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BDA-59CB-4E92-B7F4-0803FC4B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CFE-ABFD-4F84-B5FA-AB79E76C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34C-E7B7-4A09-A8EC-39A6F81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8E1-360B-4C18-BD73-FAC7C69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478-6E0B-40C1-89C1-E94E2EFE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E5F-0F96-4B1D-AC64-2E02C6F7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B71-72C1-488B-BCE9-A9799C5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F90-228F-46B8-BA24-8F935CAA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4E9-58FA-4887-AA04-0DCDBC1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919-BB89-4776-B0CB-C227437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BE811-8B32-413C-A581-D6D7F9E41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