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5464"/>
        <c:axId val="74413868"/>
      </c:barChart>
      <c:catAx>
        <c:axId val="5395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13868"/>
        <c:crosses val="autoZero"/>
        <c:auto val="1"/>
        <c:lblAlgn val="ctr"/>
        <c:lblOffset val="100"/>
        <c:noMultiLvlLbl val="0"/>
      </c:catAx>
      <c:valAx>
        <c:axId val="74413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5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E6B-CBCE-48E1-BA9C-3EBFF045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DBE-C577-48F6-9F12-84A7D2F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E82-0A23-4021-BC77-237C0864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439-CF78-4946-A235-48ABFD00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CDC-C118-427A-B8FC-4A7B3879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B7A-DDCA-462B-8B0D-BCAD420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1E6-5197-4908-B859-D565A1CE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3A3-07FA-4B40-8CC6-252381F8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970-CFBD-4072-B754-7E45E1D1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C06-F16C-472F-9DFA-8A3781B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CF3-CC65-4045-ADC5-789BDB5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F5F-7340-411A-8396-BE5E111F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90C00-438F-4F9E-A38D-16BE6A066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