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28912"/>
        <c:axId val="16724028"/>
      </c:barChart>
      <c:catAx>
        <c:axId val="21328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24028"/>
        <c:crosses val="autoZero"/>
        <c:auto val="1"/>
        <c:lblAlgn val="ctr"/>
        <c:lblOffset val="100"/>
        <c:noMultiLvlLbl val="0"/>
      </c:catAx>
      <c:valAx>
        <c:axId val="16724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28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A1F-A95F-47E2-8109-53B4A997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2F5-A05E-44C9-BF8B-8FB8BBE3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317-4B45-47A2-9E0B-69BA565D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162-E775-4CBC-BFFB-0E1D2410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C08-4168-472A-9272-E39C84A5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CBE-E806-4D06-BDC1-8F8FB370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CA9-FD8C-4237-8AC4-10C09C9F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6DC-011E-4BE8-B548-2A7BA433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0EE-8ABC-4CD5-A34C-AFF4FE15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979-04F3-4194-9AEB-1BD2F2DA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D7F-41C5-4BDC-88E9-DB2D158F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826-8F33-4508-BF09-380EF7A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8DE0F-1B59-42CF-A7C9-2378800335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