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49873"/>
        <c:axId val="46157419"/>
      </c:barChart>
      <c:catAx>
        <c:axId val="86549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7419"/>
        <c:crosses val="autoZero"/>
        <c:auto val="1"/>
        <c:lblAlgn val="ctr"/>
        <c:lblOffset val="100"/>
        <c:noMultiLvlLbl val="0"/>
      </c:catAx>
      <c:valAx>
        <c:axId val="46157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9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7EE-D1D5-4390-A762-B476824A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210-4BF1-43EF-B866-BBEDA53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8A2-A563-45E4-A92C-FBD0C265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4F4-C865-46A7-9ADA-B5CA6807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BAF-7231-45BA-B4E9-E991AA3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B03-C766-4812-BC2D-33CBC94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841-C41A-4E2C-81FF-FCC4220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023-30E4-4691-8012-BAFD4FFE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C3B-2900-4232-ACE4-D29A3135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158-9811-4036-944F-67BCBB9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225-D80B-474B-A128-4C6502D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E44-B0C9-445E-BDDC-B2394B9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A437C-AE73-43EC-AAE8-6ADA76594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