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59468"/>
        <c:axId val="86265023"/>
      </c:barChart>
      <c:catAx>
        <c:axId val="22959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65023"/>
        <c:crosses val="autoZero"/>
        <c:auto val="1"/>
        <c:lblAlgn val="ctr"/>
        <c:lblOffset val="100"/>
        <c:noMultiLvlLbl val="0"/>
      </c:catAx>
      <c:valAx>
        <c:axId val="86265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59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CDA-8DFF-41AA-98EC-1B387B9A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08D-4063-4374-BA08-A9B64396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7DC-7B01-44A6-912A-B5AB6D88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E2C-6A6F-48DE-AC5E-9EE1E669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234-B9B9-4CFE-B330-0B5A01B2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240-ACBE-474B-9F08-97AAD910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7DF-9FD8-475A-A0F3-D15661D6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239-A811-486D-A3EC-4C43F086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50E-D2EB-4BF0-BAD8-19B4E34F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61D-C046-4D2B-88FD-41957F01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F69-4E4A-44A1-B69C-0346B78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360-A382-41B5-A221-287F57C8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9959F-69C5-41B7-9E54-4290184568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